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3.wmf" ContentType="image/x-wmf"/>
  <Override PartName="/ppt/media/image10.jpeg" ContentType="image/jpeg"/>
  <Override PartName="/ppt/media/image9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wmf" ContentType="image/x-wmf"/>
  <Override PartName="/ppt/media/image7.jpeg" ContentType="image/jpeg"/>
  <Override PartName="/ppt/media/image8.wmf" ContentType="image/x-wmf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0C04-D9E4-49C2-9861-9C63D77419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chids produce thousands of seeds which are so sm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 pi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ripe capsule of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mpatien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explodes when touched, scatte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small seeds away from the pla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 pi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ttom picture   The remains of an exploded frui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DA48-4F74-4C46-B4AC-F62DFF66B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EF76-616E-4F3E-81E0-A6847DFC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D969-2D2E-4D76-90FC-14719EB2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A908-0105-4BD9-B6A5-EBC096A28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82F4-1FF2-45E4-8424-5B0851AD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C4EB-FECF-4F03-A29D-81DE764B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BE70-43F6-41F6-B8F4-78441374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A69A-2A44-4273-AD65-3523A898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0100-9E95-405D-94BE-FFC7744E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89AD-C7E4-4E07-A7D6-5BA34069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ABAD-971D-4ABC-B3DC-7A08C0C1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83F3-28A3-440C-AFA0-7C661024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04B7-2BED-4A18-B611-27E66ADC6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upload.wikimedia.org/wikipedia/commons/a/ac/Photos-photos_1088103921_Floating.jpg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upload.wikimedia.org/wikipedia/commons/3/3b/Barbed_seed_in_fur_2159.jpg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How plants shed their seeds so they do not have to compete with their offsp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771640" y="2276640"/>
            <a:ext cx="33861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SEED DISPERSAL</a:t>
            </a:r>
            <a:endParaRPr b="1" i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2016000" cy="2737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00000" y="5373720"/>
            <a:ext cx="176076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1280" y="866160"/>
            <a:ext cx="85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e of the important functions of seeds and fruits is dispers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mechanism to establish the seeds in a suitable place away from their parental plant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55640" y="4941720"/>
            <a:ext cx="1195560" cy="1494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300720" y="4365720"/>
            <a:ext cx="1828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re are 4 main mechanisms for seed and fruit dispersa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itchhiking on animals,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ifting in ocean or fresh water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loating in the 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16000" y="2565360"/>
            <a:ext cx="1951200" cy="1300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900000" y="4437000"/>
            <a:ext cx="1901880" cy="2179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435640" y="2492280"/>
            <a:ext cx="2244600" cy="1495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724360" y="5013360"/>
            <a:ext cx="2132280" cy="1450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867280" y="4581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WI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plants use wind to help th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eeds are so small that they carried easily by air curr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thers produce fruits with special adaptations for flight to carry their seeds far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4005360"/>
            <a:ext cx="3745080" cy="2131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5300640" y="1600200"/>
            <a:ext cx="2732040" cy="2185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74072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Orch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Fruits that are sticky or covered with h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Juicy berries or fruits tempt animals to eat them. The tough seed travels right through the animals gut and is deposited with its own pile of fertilis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16360" y="1486080"/>
            <a:ext cx="3816360" cy="2274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5761080" y="4314960"/>
            <a:ext cx="181116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Coconuts can float for months on ocean currents which can carry them for hundreds of miles from their parents -and other coconu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093080" y="3938760"/>
            <a:ext cx="1593720" cy="2187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Coconut fruit"/>
          <p:cNvPicPr/>
          <p:nvPr/>
        </p:nvPicPr>
        <p:blipFill>
          <a:blip r:embed="rId3"/>
          <a:stretch/>
        </p:blipFill>
        <p:spPr>
          <a:xfrm>
            <a:off x="4788000" y="1700280"/>
            <a:ext cx="380988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Explosiv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ome plants use mini explosions to spread their seeds. The pods dry out and pop, flinging the seeds out and away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003640" y="1557360"/>
            <a:ext cx="3033720" cy="2022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5076720" y="4005360"/>
            <a:ext cx="3024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11:15:50Z</dcterms:created>
  <dc:creator>John</dc:creator>
  <dc:description/>
  <dc:language>en-US</dc:language>
  <cp:lastModifiedBy>John</cp:lastModifiedBy>
  <dcterms:modified xsi:type="dcterms:W3CDTF">2006-12-02T12:52:12Z</dcterms:modified>
  <cp:revision>4</cp:revision>
  <dc:subject/>
  <dc:title>Slide 1</dc:title>
</cp:coreProperties>
</file>